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61A0-8539-4BB6-AF16-D29A0C672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65D4-DBE0-4F4F-B643-E137D71F8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2728-6179-490A-BE86-DA04EB827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19FC-48CC-424D-A5D3-CDF880E81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029D-B4D5-40F4-BC7B-775FD730C7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E077-C7C4-416D-BFC4-EB5C56A537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ED41-55C5-4818-ABD7-2899359E0B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F939-FDF6-4F77-BD58-95EA59C134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D56E-A5B7-45B9-90D4-1C7F890252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90DD-5013-45CC-95EE-A4BE769A0A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711F-592A-47CD-8000-E5936F241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725E-05C0-4484-8A02-89FE389E4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F55E-B34C-4A08-8BC7-489B128D5B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58CF-9677-454A-BFD4-4B454CD9AE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4789-71B2-42DF-918B-07CAAF9F98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0A2E-AB5A-472A-B90C-52B4B3A516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D685-51E5-4435-8D1B-E36AF6E4EA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40A9B-61FB-4D43-8FA3-7CD5BDF9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ED863-E8C2-43EB-9D71-E3BEAC97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6E535-8187-4A87-AC27-717C0377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5388E-FC07-4829-B2C6-268BCA86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8F6B8-44C8-4029-BEA7-C9A7EFB9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0736-E8EB-4728-AF5E-3F0B7D5780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757D5-4A4D-4B69-9D2F-F32C1CAF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BC23F-22EA-4F4A-9170-0D096B3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2A4D5-FF72-4E1A-B473-FD08DFE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FFEEE-26D2-4302-AA59-560D2F9A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900F2-A0DD-4895-B017-4EC91689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371A4-10B9-4622-8E61-2858601B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7D87E-5977-4603-B410-40C4D137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8881-40F9-4D38-950A-9EA5046548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63B1-31D9-4141-95D7-DAD69550D3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862F-4A91-4E1E-93B1-111037FCE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DDA9-8415-48C1-97B1-1061593C76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555F-06DF-44D7-BBB1-07E9015BAF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AD5F-3BA3-4DEA-98C5-DA981791C1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0AC8-1018-45C6-80DE-DFFE77F12D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D7AA-D963-4262-AFF0-47821A0043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3A28-3EC2-4A0B-8E01-8C40686453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AAA9-BB62-4F11-97B0-3945A4ADFF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E124-6326-4819-B4FC-4F1F517A26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7332-5C5A-4BC9-8E23-353E870C20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29F9-DB99-419C-969B-4BA9FC77F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7A5D-751F-440F-B658-AB177E8FA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33D8-90CB-4E64-8998-352B438D3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7298-74D1-4CAB-BB6C-E88F87E8C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7193-77F1-4C86-8DB9-C5A7038D4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0310-2A03-4A17-B388-0CC0C678E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299-90B7-4D3C-9501-4A7BB969EC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29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EI_Logo.tif"/>
          <p:cNvPicPr/>
          <p:nvPr/>
        </p:nvPicPr>
        <p:blipFill>
          <a:blip r:embed="rId2"/>
          <a:stretch/>
        </p:blipFill>
        <p:spPr>
          <a:xfrm>
            <a:off x="3753000" y="241200"/>
            <a:ext cx="3333600" cy="54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"/>
          <p:cNvPicPr/>
          <p:nvPr/>
        </p:nvPicPr>
        <p:blipFill>
          <a:blip r:embed="rId3"/>
          <a:stretch/>
        </p:blipFill>
        <p:spPr>
          <a:xfrm>
            <a:off x="2533680" y="157320"/>
            <a:ext cx="1033560" cy="71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E98C-0400-41DB-939A-261F04810C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9" descr=""/>
          <p:cNvPicPr/>
          <p:nvPr/>
        </p:nvPicPr>
        <p:blipFill>
          <a:blip r:embed="rId4"/>
          <a:stretch/>
        </p:blipFill>
        <p:spPr>
          <a:xfrm>
            <a:off x="2104920" y="128520"/>
            <a:ext cx="1033560" cy="71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EI_Logo.tif"/>
          <p:cNvPicPr/>
          <p:nvPr/>
        </p:nvPicPr>
        <p:blipFill>
          <a:blip r:embed="rId5"/>
          <a:stretch/>
        </p:blipFill>
        <p:spPr>
          <a:xfrm>
            <a:off x="3753000" y="241200"/>
            <a:ext cx="3333600" cy="546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E86B-00AB-49B7-921C-278A3D4147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Num" idx="6"/>
          </p:nvPr>
        </p:nvSpPr>
        <p:spPr>
          <a:xfrm>
            <a:off x="7200720" y="6310080"/>
            <a:ext cx="1904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6880" y="1476000"/>
            <a:ext cx="7686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DAC Long-Term Archive Develop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440" y="2952720"/>
            <a:ext cx="75438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bert R. D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cioeconomic Data and Applications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er for International Earth Science Information Network (CIESI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arth Institute, Columbia Universi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d for presentation to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 ESIP Federation Winte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hington, D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5-7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EI_Logo.tif"/>
          <p:cNvPicPr/>
          <p:nvPr/>
        </p:nvPicPr>
        <p:blipFill>
          <a:blip r:embed="rId1"/>
          <a:stretch/>
        </p:blipFill>
        <p:spPr>
          <a:xfrm>
            <a:off x="3753000" y="241200"/>
            <a:ext cx="3333600" cy="54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9" descr=""/>
          <p:cNvPicPr/>
          <p:nvPr/>
        </p:nvPicPr>
        <p:blipFill>
          <a:blip r:embed="rId2"/>
          <a:stretch/>
        </p:blipFill>
        <p:spPr>
          <a:xfrm>
            <a:off x="2104920" y="128520"/>
            <a:ext cx="1033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DAC Active Archive and Long-Term Archive: Data Organ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901800" y="1308240"/>
            <a:ext cx="727704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SEDAC Collections in Digital Data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680000" y="1935000"/>
            <a:ext cx="2938320" cy="15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EDAC Long-Term Archive Data and Information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4400640" y="30733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461960" y="3502080"/>
            <a:ext cx="153828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Public Access to Data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000240" y="3502080"/>
            <a:ext cx="140040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Restricted Access to Data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680000" y="3502080"/>
            <a:ext cx="153972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Public Access to Data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219720" y="3502080"/>
            <a:ext cx="139860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Restricted Access to Data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461960" y="1935000"/>
            <a:ext cx="2938680" cy="15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EDAC Active Archive Data and Information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12800" y="5129280"/>
            <a:ext cx="768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tive Arch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r near-term dissemination with high levels of service. Primary users are discipline-specific scient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ng-Term Arch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r the 50 – 100 year preservation time-frame with different expectations for levels of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inuing Self-Assessment of L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ng an initial self-assessment of the LTA using the Trustworthy Repositories Audit and Certification: Criteria and Checklist (OCLC &amp; RLG, 200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ing the Draft Recommended Standard for Audit and Certification of Trustworthy Digital Repositories (July 2009 Red Book, CCSDS) for use as a self-assessment instr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771A-0C3C-400E-91C6-D16D38348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95440" y="248760"/>
            <a:ext cx="62150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DAC Long-Term 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18124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DAC Long-Term Archive acquires, preserves, and maintains the content of selected high-quality data, data products, documentation, and services relevant to human dimensions of global change in a digital form to support the discovery, access, and use of archived resources by scientific, educational, and decision-making communities for at least the next 5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172F-6D4C-417A-A62B-8F8AB6BD3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52680" y="23796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the LTA to Meet OAIS Requirement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880" y="1285560"/>
            <a:ext cx="83059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1 Negotiate for and accept appropriate information from Produc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SIP preparation includes review of AIP for completen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2 Obtain sufficient control for Long-Term Preserv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appraisal criteria includes review for legality and confidenti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3 Determine the Designated Commun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appraisal criteria includes identification of potential usability and use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4 Ensure information is understandable to Designated Commun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appraisal criteria includes ensuring that the data is documented for accessi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5 Follow documented preservation policies and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LTA policies and procedures are being reviewed by the LTA Bo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6 Make the preserved information available to Designated Commun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Board designates the dissemination level to be assigned to data when approved for acc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ucting a self-assessment of the LTA as a trustworthy digital reposi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the Trustworthy Repositories Audit and Certification: Criteria and Checklist (OCLC &amp; RLG, 200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57080" y="314280"/>
            <a:ext cx="6143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TA Governance and Manag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9068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A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s the Selection Criteria for Submission of SEDAC Data to the 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s the submission of recommended data or information resources that meet the LTA selection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A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s to the LTA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ible for development and operations of LTA systems, staff and procedures, to ensure the stewardship of LTA ho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A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 to the LTA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ion and maintain LTA holdings in accordance with LTA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DAC Engineering staff support infrastructure development and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apted from SEDAC Long-Term Archive Implementation Plan (Draft revised 200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6400" y="151920"/>
            <a:ext cx="7105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gency Plan: SEDAC Long-Term Arch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vernance and Managemen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609480" y="1695600"/>
            <a:ext cx="784872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LTA Board members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presented by the SEDAC Project Scientist, the SEDAC Systems Engineer, and the SEDAC LTA Mana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presentatives designated by the Earth Institut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presentatives designated by the Columbia University Libr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event of a lapse in SEDAC fun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braries will replace chair and one of the SEDA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IESIN will name the other SEDAC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&gt; Columbia University Libraries will have majority of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lumbia University will appoint the Long-Term Archive Manager and other staff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apted from SEDAC Long-Term Archive Implementation Plan (Draft revised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480" y="151920"/>
            <a:ext cx="70200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ection Criteria for LTA Data Apprais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42880" y="1149120"/>
            <a:ext cx="767088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ientific or Historical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tation, research, and educational use as published in refereed scientific publications/reports from recognized committee of scienti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tential Usability and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idence of usability, usefulness, and sufficient usage by the community interested in human dimensions of the environment. Adequate evidence indicate potential for future use justifies costs of long-term arch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queness of 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non-redundant stewards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being preserved in any form in another archive and is at risk of loss if not accessioned into the Long-Term Arch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vance to LTA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ly endorsed or approved by community interested in human interactions in the environment. For the short-term, relevance includes content germane to SEDAC mission and SEDAC strategic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ed for Acces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eness and correctness of documentation to facilitate future discovery, access,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ological Accessi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feasi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in format meeting technical criteria for the Service Level designated for the 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gality and Confidenti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restricted permissions for preservation and future dissemination. No information that is confidential or prohibited from dissemin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-Replic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replication not feasible, excessively costly or prohib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TA Levels of Service for Preservation of SEDAC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 Content in Original Forma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 is maintained in Original Formats on accessible system for the specified retention peri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 and Maintain Content in Supported Forma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 received in Supported Formats is maintained on accessible system and is migrated to current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ed Forma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CII Text (txt, xml, ht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 Separated Values (cs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Files (png, jpg, tif, g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able Document Format (p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TA Levels of Service for Dissemination of SEDAC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7600" y="1176120"/>
            <a:ext cx="8391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tricted Disseminatio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esource and its Dissemination Information Package (DIP) are not accessible by the publi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scovery metadata for the resource is included in the LTA restricted access catalo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 to the restricted resource is granted in compliance with the restrictions specified for the re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ited user support is provided for a restricted resource that is authored by SEDAC in compliance with the restrictions specified for the re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use of restricted resources and services is evaluated and repor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Disseminatio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ssemination Information Package (DIP) for the resource is freely accessible by the public in digital for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scovery metadata for the resource is included in the LTA public access catalo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act information for user support is provided on the LTA public access catalo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s are provided for legitimate requests to correct publicly disseminated documentation or access capabil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s or referrals are provided for scientific and technical questions about publicly disseminated re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s are described for publicly disseminated resources or serv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use of publicly disseminated resources and services is evaluated and repor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1320" y="152280"/>
            <a:ext cx="700416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eservation and Dissemination Services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DAC Data Approved for Accession to the L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1359000"/>
          <a:ext cx="8153640" cy="5232240"/>
        </p:xfrm>
        <a:graphic>
          <a:graphicData uri="http://schemas.openxmlformats.org/drawingml/2006/table">
            <a:tbl>
              <a:tblPr/>
              <a:tblGrid>
                <a:gridCol w="3733920"/>
                <a:gridCol w="838080"/>
                <a:gridCol w="1866960"/>
                <a:gridCol w="1714680"/>
              </a:tblGrid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et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at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eminat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Treaties and Resource Indicators (ENTRI) - The Update of the Treaty Status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OPH: A Data Base of Salt Tolerant Plants of the Wor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ubset of Collection of Multilateral Conventions at the Fletcher School of Law and Diplom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and Maintain Content in Supported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dom in the World (1995-19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Resources 1996-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Resources 1998-99: A Guide to the Global Environment: Environmental Change and Human Health (Data Tab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ded Population of the World (GPW) Vers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and Maintain Content in Supported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ded Population of the World (GPW) Vers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and Maintain Content in Supported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ded Population of the World, Version 2: Ancillary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and Maintain Content in Supported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Model for the Assessment of the Greenhouse Effect (IMAGE) 2.0 and Associated Sce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9:01:14Z</dcterms:created>
  <dc:creator>Bob Chen</dc:creator>
  <dc:description/>
  <cp:keywords/>
  <dc:language>en-US</dc:language>
  <cp:lastModifiedBy>Ruth Duerr</cp:lastModifiedBy>
  <cp:lastPrinted>2002-01-07T14:25:07Z</cp:lastPrinted>
  <dcterms:modified xsi:type="dcterms:W3CDTF">2010-01-11T19:09:16Z</dcterms:modified>
  <cp:revision>1589</cp:revision>
  <dc:subject/>
  <dc:title>SEDAC</dc:title>
</cp:coreProperties>
</file>